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387-2210-40F5-8F9D-81D22E5A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9F8-CD8E-4F07-9187-76369A1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BB0-DC5B-49E4-8F54-70F33D8B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972-7F59-4431-BF9F-4690B515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F7D-0AB1-45A9-8988-C1A7C34D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184-BCB7-4FBE-93BD-B01C2A4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535-1BF3-44C7-989A-DD1077C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030-F954-4BDE-ABA8-308A19B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DD7-45AF-4A1D-8995-26DEB90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2F4-D3BF-472F-9196-D25A405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6BA-FEAE-40B0-9410-FC980E4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7A8-5E84-4175-83CA-95FFD10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47A8A-0157-4F12-9177-E61A357A62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DD0A2-C13A-4DB9-BEFE-3FAC41B74C5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5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6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7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5:49Z</dcterms:created>
  <dc:creator>최봉수</dc:creator>
  <dc:description/>
  <dc:language>en-US</dc:language>
  <cp:lastModifiedBy>맛있다 군만두</cp:lastModifiedBy>
  <dcterms:modified xsi:type="dcterms:W3CDTF">2024-10-01T03:11:28Z</dcterms:modified>
  <cp:revision>3</cp:revision>
  <dc:subject/>
  <dc:title>슬라이드 1</dc:title>
</cp:coreProperties>
</file>