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FFB-0ACF-4034-8F47-EECCA330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A83-F2D1-4655-A7C3-51054A0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1E2-E1F6-4BE5-AE61-C90BC750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EC0-B475-4BEA-AF91-08BF38AF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30D-DC1D-4858-8EB3-5B670E8F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1A6-4053-4A77-BBAE-176EC32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F40-33CB-4328-9EBB-25A3B265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B17-ACE7-486D-B8E5-10426E00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A2E-28ED-4955-9957-1A87A2D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FE8-F6B9-48E6-B1ED-53E96850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EC4-94FE-4CF3-B5FC-AA625304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1D3-C288-4AAD-A8EF-09B59913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D8DA9-C284-44FA-87BF-A18A4D62AF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5D276-470C-4A83-88DA-FCBF443A57A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5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6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7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35:49Z</dcterms:created>
  <dc:creator>최봉수</dc:creator>
  <dc:description/>
  <dc:language>en-US</dc:language>
  <cp:lastModifiedBy>맛있다 군만두</cp:lastModifiedBy>
  <dcterms:modified xsi:type="dcterms:W3CDTF">2024-10-01T03:11:28Z</dcterms:modified>
  <cp:revision>3</cp:revision>
  <dc:subject/>
  <dc:title>슬라이드 1</dc:title>
</cp:coreProperties>
</file>