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ED6-E8D7-45E0-A7A4-A4F9E265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203-1356-4714-B4DD-07B3CFC4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7B0-C1B5-4000-BD93-3D91E23D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555-0DEB-42B8-BF66-EBFAF2A6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AFB-3A80-4D70-A16D-305F0798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3C2-5BFA-467E-BCC3-41168237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009-6C97-4295-B281-86F30495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BF7-AC14-41A5-AF3C-BC7D465C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D71-535E-44B8-A5F6-828C8AC7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89D-7F6C-421C-B9FC-060817C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C70-C2D9-4E70-8CB7-75CA91A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7F7-8296-4503-9550-44D9A016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54E97-111D-4065-A798-15DC49F8F8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DA0DD-CEA8-4523-825F-5FB5DFBBCEE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33:18Z</dcterms:created>
  <dc:creator>최봉수</dc:creator>
  <dc:description/>
  <dc:language>en-US</dc:language>
  <cp:lastModifiedBy>맛있다 군만두</cp:lastModifiedBy>
  <dcterms:modified xsi:type="dcterms:W3CDTF">2023-07-13T11:09:52Z</dcterms:modified>
  <cp:revision>3</cp:revision>
  <dc:subject/>
  <dc:title>슬라이드 1</dc:title>
</cp:coreProperties>
</file>