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AC8-9938-4AE5-8B02-EB9EA5DB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DDD-F503-4BF8-8935-74667CE8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768-1882-4CBD-8F80-DA955197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EF0-C891-4B7A-B3B1-98350D75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09A-55D6-466D-BD2A-10A9AD51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846-66B7-4AEF-A0A2-D5628743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147-BC7B-44D5-A84A-D7C82180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F1E-0B41-48A0-B0E3-B3D9BD95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E98-D413-4DC4-B854-222FE88A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D5F-CA21-4BE2-83EB-AB54C982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468-A3A7-4824-96F5-4D21815D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E99-A58B-49AF-ACB0-59C2D841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0C8EB-6444-40E9-B1E7-BFB6CA40448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7A3905-B7A1-4ADA-B837-1E441B29B8C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1:33:18Z</dcterms:created>
  <dc:creator>최봉수</dc:creator>
  <dc:description/>
  <dc:language>en-US</dc:language>
  <cp:lastModifiedBy>맛있다 군만두</cp:lastModifiedBy>
  <dcterms:modified xsi:type="dcterms:W3CDTF">2023-07-13T11:09:52Z</dcterms:modified>
  <cp:revision>3</cp:revision>
  <dc:subject/>
  <dc:title>슬라이드 1</dc:title>
</cp:coreProperties>
</file>