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A500-8831-4C0F-9F80-48A659B88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A31C-A308-43AC-ABC4-455C6983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EBA6-4D9C-4B96-BADB-8609F3C12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42B7-529D-4900-B94C-6653E9FC2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B321-229C-4A7D-9172-1B052015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4584-1564-428E-B7AB-8CF5AD66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31A2-BE50-4F82-852A-2C17883C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0276-6089-408E-9C7B-F6228BB7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E98A-C04F-400C-90C8-1DD9AFE7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E775-E020-459F-B9B6-FFC3EE5E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0774-7B62-447B-A38A-F232FBEF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B26D-30B1-4BF8-A1F6-4D4DDAF2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9E334A-91F9-456C-800D-EA09013E8B2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4F0A1D-3531-4FFC-B826-66B3B32368CE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4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4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4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4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4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4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4.xml"/><Relationship Id="rId6" Type="http://schemas.openxmlformats.org/officeDocument/2006/relationships/image" Target="../media/image3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4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4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4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4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61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64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67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70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7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7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80" name="Picture 12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3">
              <a:hlinkClick r:id="rId7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83" name="Picture 15" descr=""/>
            <p:cNvPicPr/>
            <p:nvPr/>
          </p:nvPicPr>
          <p:blipFill>
            <a:blip r:embed="rId8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6">
              <a:hlinkClick r:id="rId9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87" name="Picture 4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90" name="Picture 7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93" name="Picture 10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11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96" name="Picture 13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14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9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7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8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9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10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11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2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3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4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5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6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7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8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6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7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8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9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10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1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2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3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4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5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6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7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8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1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4" name="Pictur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11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7" name="Picture 13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4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9" name="Picture 15" descr=""/>
          <p:cNvPicPr/>
          <p:nvPr/>
        </p:nvPicPr>
        <p:blipFill>
          <a:blip r:embed="rId13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8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1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54" name="Picture 10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1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57" name="Picture 13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14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2:42:09Z</dcterms:created>
  <dc:creator>최봉수</dc:creator>
  <dc:description/>
  <dc:language>en-US</dc:language>
  <cp:lastModifiedBy>맛있다 군만두</cp:lastModifiedBy>
  <dcterms:modified xsi:type="dcterms:W3CDTF">2024-10-01T02:41:15Z</dcterms:modified>
  <cp:revision>5</cp:revision>
  <dc:subject/>
  <dc:title>슬라이드 1</dc:title>
</cp:coreProperties>
</file>