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741-D10A-43F0-A25D-142DC53A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0D8-AA08-4AF3-BDC7-143E031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F83-303E-4E06-AE86-349209CD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E9B-29D7-4B70-B4C1-72D19647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7EC-2A6D-47B2-B854-2C06A638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4E1-68B0-4BD7-B23F-63C3141A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519-54FB-402C-B069-515704B9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8BD-4807-41D9-B007-61D55FF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72E-331E-49D4-83DA-D5B92A2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838-28A7-4B23-BBE0-D2BD803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64F-22E8-4B55-BC8F-EF1E71E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651-19B5-41D5-AD2A-9A0785F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105D6-2EF0-4C8E-94E0-8BD21D6AF1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DAA02-1668-4A2A-8D2C-8979684E0BA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9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1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1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7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8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8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1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3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4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6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7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5" descr=""/>
          <p:cNvPicPr/>
          <p:nvPr/>
        </p:nvPicPr>
        <p:blipFill>
          <a:blip r:embed="rId1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2:42:09Z</dcterms:created>
  <dc:creator>최봉수</dc:creator>
  <dc:description/>
  <dc:language>en-US</dc:language>
  <cp:lastModifiedBy>맛있다 군만두</cp:lastModifiedBy>
  <dcterms:modified xsi:type="dcterms:W3CDTF">2024-10-01T02:41:15Z</dcterms:modified>
  <cp:revision>5</cp:revision>
  <dc:subject/>
  <dc:title>슬라이드 1</dc:title>
</cp:coreProperties>
</file>