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474-9AD7-4E4E-9AF1-6CE4FFD7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950-494E-4472-8105-124F2047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494-BC31-494A-9CE2-7F69646D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86A-F04F-4C40-BBB9-EA31D8CC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E1B-03DA-462A-A9EF-E295BFE8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04E-6912-4F38-A002-E531E4B2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1D9-68E1-4FCA-BCB0-B2517A5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182-D56B-41E0-A03F-AA5B0F65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52E-81A8-4ACD-BBFB-2F1199EA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BD9-4B28-4DAB-9F4B-03D513E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D30-5F20-45B2-A7B5-F6D3769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BD3-1319-4745-9635-0E547BA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C2F50-B813-49FB-8C65-6A62A4C725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74E14-E1A8-491F-8A4A-9DC350177CE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7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8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1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4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6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7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8:40:35Z</dcterms:created>
  <dc:creator>최봉수</dc:creator>
  <dc:description/>
  <dc:language>en-US</dc:language>
  <cp:lastModifiedBy>맛있다 군만두</cp:lastModifiedBy>
  <dcterms:modified xsi:type="dcterms:W3CDTF">2024-10-01T03:12:23Z</dcterms:modified>
  <cp:revision>3</cp:revision>
  <dc:subject/>
  <dc:title>슬라이드 1</dc:title>
</cp:coreProperties>
</file>