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5F4-01D8-4926-86CB-4931C50D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961-E733-4FC1-97A6-9D7DFC1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B23-2A11-4802-A5FA-255E7F2E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BD9-AD42-47BA-B372-F3871B3A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28D-8350-4ACD-9FE8-377D9FB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A10-5BF6-4ABF-BF3F-7A08BDF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49F-8039-41EB-847E-6CCB19C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064-C919-4B6B-BAE9-2B942EE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4CA-F780-41F5-9B67-86C7FEF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AC6-710F-4CC2-9E81-4733D64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2D4-274B-4C13-BDE5-41EAD6F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4F6-D8E3-49A6-9426-02F2928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9E2DE-8F2E-44FA-B35F-0DC3BE6D71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ABA33-03AB-423D-B89D-BCEB8C359DB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1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4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6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8:40:35Z</dcterms:created>
  <dc:creator>최봉수</dc:creator>
  <dc:description/>
  <dc:language>en-US</dc:language>
  <cp:lastModifiedBy>맛있다 군만두</cp:lastModifiedBy>
  <dcterms:modified xsi:type="dcterms:W3CDTF">2024-10-01T03:12:23Z</dcterms:modified>
  <cp:revision>3</cp:revision>
  <dc:subject/>
  <dc:title>슬라이드 1</dc:title>
</cp:coreProperties>
</file>