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BD9-1A50-4F03-AB7D-D547873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313-E27B-44B6-A4E8-7333137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D49-2B4C-4AEE-94A9-5DA119CA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F13-AA09-4E12-805B-3EAE07D7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1D2-1834-4247-B196-1BE3075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514-C275-4E29-AA18-F627C12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F69-4B3C-4457-BBD4-0EE8E639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719-7C55-49B4-8A3A-21795BA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032-7556-4249-8AD1-D50E829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36D-06B6-4926-A9B2-F3D44BC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809-BF58-4A85-800C-A342B8C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874-4447-4F1C-8C18-DCE789A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E4D-1089-48A4-A7CB-82254AD3C0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05:02Z</dcterms:modified>
  <cp:revision>26</cp:revision>
  <dc:subject/>
  <dc:title>슬라이드 1</dc:title>
</cp:coreProperties>
</file>