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19A7-8597-4EBA-BDA5-4792BF44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844-3F6E-40B9-ABD1-04166119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550-5B59-431C-84E2-42D10F0A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10A-7098-4B23-A7F7-EBDF14E1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68A-DF7A-4A4A-B9C2-D6A73420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950-E9ED-46AB-AF3B-5D4BE563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AEB-1673-457A-8F9A-492CA6C5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DB6-D53A-4E55-8E4F-B669CB23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7C2-93F7-4C8E-93D7-9DA8B5DE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4A0-F328-40F6-B9F1-967CB34B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A07-EDF9-4D0D-9306-48012E77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154-6685-4AF7-B368-E61F6C3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5C47-6AA6-4F66-9FA7-1E81F57AEE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7T06:05:02Z</dcterms:modified>
  <cp:revision>26</cp:revision>
  <dc:subject/>
  <dc:title>슬라이드 1</dc:title>
</cp:coreProperties>
</file>