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767F-5006-430E-BDC0-E69C52A6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E17-4C7B-4068-BE89-16BDBD13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155-71DC-4310-83D9-ADC9F956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75E-415C-46F0-B57D-7D474859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5DA-12CA-4791-938C-32894A13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72E-3993-4E77-B594-1A74BE5F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1549-B5C7-480A-BCDE-660AEEA7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A83-7BB5-4431-9888-D7C90999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9F8-6056-4603-848D-B7D56321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565-1F87-4E33-8A07-53DB44DB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0DF-8DE3-4390-B999-D0342A5E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E09-4088-4EC5-A023-EAECF8DD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E4EC-E970-4DC2-AF06-E665170FC5E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27T05:24:04Z</dcterms:modified>
  <cp:revision>23</cp:revision>
  <dc:subject/>
  <dc:title>슬라이드 1</dc:title>
</cp:coreProperties>
</file>