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4F3-A465-4784-9802-B4F90374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7E2-1A3B-488D-B25D-7C132E78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547-6F95-403D-AA4D-F9A42154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98A-8D4D-4EEA-9825-0E359C22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28B-2230-4AB6-AEE2-27DFE471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601-0D5B-45BA-87A7-01B92D37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3BE-EC7D-4A6B-AA0F-5FF7598C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4F8-E1D9-4DCA-8AC7-F70A1E6D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5D7-417E-4EB9-A66C-8C263FB3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A26-09DA-4164-B17D-A7350398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ABE-73FA-4499-9815-C1569B14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382-1E55-4B34-9C4D-8AA377A7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BB03-4566-45D1-98A0-9476FB99FC9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7T05:24:04Z</dcterms:modified>
  <cp:revision>23</cp:revision>
  <dc:subject/>
  <dc:title>슬라이드 1</dc:title>
</cp:coreProperties>
</file>